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D8681-4A05-40FE-A34B-41D36803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58A0-FCB9-4B7F-A71E-CC51E010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ABBA5-E8F2-445C-92AA-F561F71C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999FE-8621-45FD-87EB-EA3B0314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68FB-A9B8-41B8-BE9F-8D3CE08A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DB41-9C4A-476D-ACAB-85D3542C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75AB-EE9D-4178-A621-EB15DC31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B8C3-F750-4420-B8CC-9A897C09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C20F-9085-4106-AFCE-63359655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E680-4EF1-450B-BC30-85B33EFA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DCCC-2537-422E-871E-1A022411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670F6-EB59-4275-B5B0-A43B1FD4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51C6-5D2B-4372-9704-0B560EC7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A86D-1151-49FE-A391-3DC8F7C5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0572-F879-4312-A46A-F8BCDB34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98E9-3ED2-403B-96FD-E55E68FD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5C68-C8DA-407D-BEC2-CD40947B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F3267-E0EA-48A5-B75B-751894D6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7401-9958-44A0-86B3-96DF32B3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EA61-7937-49D5-8554-50D84BC0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6CCB-0496-4937-9DE5-8FDD29F1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36A6A-F7AA-440C-BD72-3040D46E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1DB3-64DB-4CA2-90C0-13F3D250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E97C-4B6F-42BA-A768-7FD8A24E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2AAC-8BA2-453B-A522-9FF37FFEE02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1F27-4437-4815-9AC6-24CDD69F850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83628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Само листа! Каква е скръб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твоя Спас преблаг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ъй малко верен си Му би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ъй малко си Го ти люби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, няма друго в теб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свен листа, ах, сал лис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139400"/>
            <a:ext cx="1008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х, сал листа! А де плодъ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верский ти живот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своя Спас, човече кле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чуеш ти: „Бъди проклет"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м всичкий твой имо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 сал листа, ах, сал лис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89172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х, сал листа! Ще можеш л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ед Него да стоиш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адски огън ти тогаз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леч от милия ни Сп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т' плява ще гориш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х, сал листа, ах, сал лист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7T16:44:04Z</dcterms:modified>
  <cp:revision>188</cp:revision>
  <dc:subject/>
  <dc:title>Slide 1</dc:title>
</cp:coreProperties>
</file>